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357-D381-4DF8-9913-2CAD3A44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F86-425B-4EEB-854E-1D0574B4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76C-8E99-4C0E-91AB-61BD25FD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B8F-F0E0-482A-AF6C-088B5391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CCA-756D-4375-9330-C39B4844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710-75DB-46DB-B10A-58CB64A3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D76-F238-4CC8-94B3-A65AE20B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4E4-C268-412A-9F3E-6132832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F147-8AD3-4370-AD82-534A57C0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E62-C6FB-42A9-82F1-8EBB4686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C52-DFDD-4A6D-9D87-62B105E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AF7-8B2F-4DBE-AFEA-CBD0E95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5139-0494-4C71-81C1-2498CF254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1600200" cy="1914480"/>
          </a:xfrm>
          <a:prstGeom prst="rect">
            <a:avLst/>
          </a:prstGeom>
          <a:ln w="0">
            <a:noFill/>
          </a:ln>
        </p:spPr>
      </p:pic>
      <p:cxnSp>
        <p:nvCxnSpPr>
          <p:cNvPr id="42" name=""/>
          <p:cNvCxnSpPr>
            <a:stCxn id="41" idx="1"/>
          </p:cNvCxnSpPr>
          <p:nvPr/>
        </p:nvCxnSpPr>
        <p:spPr>
          <a:xfrm flipH="1">
            <a:off x="2208960" y="3395520"/>
            <a:ext cx="1753920" cy="3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" name=""/>
          <p:cNvCxnSpPr>
            <a:stCxn id="41" idx="0"/>
          </p:cNvCxnSpPr>
          <p:nvPr/>
        </p:nvCxnSpPr>
        <p:spPr>
          <a:xfrm flipH="1" flipV="1">
            <a:off x="4723920" y="1294560"/>
            <a:ext cx="38880" cy="114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" name=""/>
          <p:cNvCxnSpPr/>
          <p:nvPr/>
        </p:nvCxnSpPr>
        <p:spPr>
          <a:xfrm>
            <a:off x="5562360" y="3352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" name=""/>
          <p:cNvCxnSpPr>
            <a:stCxn id="41" idx="2"/>
          </p:cNvCxnSpPr>
          <p:nvPr/>
        </p:nvCxnSpPr>
        <p:spPr>
          <a:xfrm>
            <a:off x="4762440" y="4352760"/>
            <a:ext cx="38880" cy="136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" name=""/>
          <p:cNvSpPr/>
          <p:nvPr/>
        </p:nvSpPr>
        <p:spPr>
          <a:xfrm>
            <a:off x="3809880" y="228600"/>
            <a:ext cx="17528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2819520"/>
            <a:ext cx="20574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2819520"/>
            <a:ext cx="19051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638680"/>
            <a:ext cx="17524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04920"/>
            <a:ext cx="306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rated Un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F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520" y="4467240"/>
            <a:ext cx="380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ject has it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tab on our protop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ill take studen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orts of fun activ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2:40:16Z</dcterms:created>
  <dc:creator>Donnie EIland License</dc:creator>
  <dc:description/>
  <dc:language>en-US</dc:language>
  <cp:lastModifiedBy>Donnie EIland License</cp:lastModifiedBy>
  <dcterms:modified xsi:type="dcterms:W3CDTF">2008-04-23T03:12:33Z</dcterms:modified>
  <cp:revision>3</cp:revision>
  <dc:subject/>
  <dc:title>PowerPoint Presentation</dc:title>
</cp:coreProperties>
</file>